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53D-AE59-481F-832B-AB238956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418-66B1-4862-AD06-6034F0F6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7EF-ABBC-4008-A94D-986CAA47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5B7-7D3B-4702-9305-6F05E8E5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43F-E14A-4F3E-8CDF-7288ACB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C2A-0FAA-4FB3-AA2A-BD3454A3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D5D-3CA3-4314-A758-553B7D6D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31F-A19D-4A21-A294-004CE076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C6F-D46A-4EC9-8AEC-5E16A3EB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7F6-F308-4540-9B82-76FFCA7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BD9-0E03-4E57-B0C6-4FCCE64A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12C-EF44-4CFD-A9EF-66A5E95B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Волна 7"/>
          <p:cNvGrpSpPr/>
          <p:nvPr/>
        </p:nvGrpSpPr>
        <p:grpSpPr>
          <a:xfrm>
            <a:off x="85680" y="-42840"/>
            <a:ext cx="9101160" cy="6967440"/>
            <a:chOff x="85680" y="-42840"/>
            <a:chExt cx="9101160" cy="6967440"/>
          </a:xfrm>
        </p:grpSpPr>
        <p:pic>
          <p:nvPicPr>
            <p:cNvPr id="1" name="Волна 7" descr=""/>
            <p:cNvPicPr/>
            <p:nvPr/>
          </p:nvPicPr>
          <p:blipFill>
            <a:blip r:embed="rId3"/>
            <a:stretch/>
          </p:blipFill>
          <p:spPr>
            <a:xfrm>
              <a:off x="85680" y="-42840"/>
              <a:ext cx="910116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54160" y="1816200"/>
              <a:ext cx="8761320" cy="33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Рисунок 11" descr=""/>
          <p:cNvPicPr/>
          <p:nvPr/>
        </p:nvPicPr>
        <p:blipFill>
          <a:blip r:embed="rId4"/>
          <a:stretch/>
        </p:blipFill>
        <p:spPr>
          <a:xfrm>
            <a:off x="-115920" y="-131760"/>
            <a:ext cx="2470320" cy="23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" name="Рисунок 12" descr=""/>
          <p:cNvPicPr/>
          <p:nvPr/>
        </p:nvPicPr>
        <p:blipFill>
          <a:blip r:embed="rId5"/>
          <a:stretch/>
        </p:blipFill>
        <p:spPr>
          <a:xfrm>
            <a:off x="6753240" y="4572000"/>
            <a:ext cx="2390760" cy="228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A804-FA41-4ABD-AEFA-B0EAA7455C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38360" y="249120"/>
            <a:ext cx="7099200" cy="119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Марининская СОШ № 16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93400" y="2333520"/>
            <a:ext cx="68454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Технологии препода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предмета «Музыка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в основной шк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Учитель музыки  О.Н. Черныш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1560" y="1047240"/>
            <a:ext cx="73026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перспективно - опережающего обуч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6120" y="2238120"/>
            <a:ext cx="867744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технология нацелена на успех, как главное условие развития детей в обуче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Н. Лысенкова открыла интересный факт: чтобы уменьшить объективную трудность некоторых вопросов программы, надо опережать их введение в учебный процес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трудную тему можно затрагивать заранее в какой-то связи с изучаемым в данный момент материал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ая (последующая после изучаемой) тема дается на каждом уроке малыми порциями (5—7 мин). Тема при этом раскрывается медленно, последовательно, со всеми необходимыми логическими переход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1676520" y="1724040"/>
            <a:ext cx="7148520" cy="609480"/>
          </a:xfrm>
          <a:prstGeom prst="rect">
            <a:avLst/>
          </a:prstGeom>
          <a:noFill/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едагогика должна ориентироваться не на вчерашний, а на завтрашний день детского актуального развития". Л.С.Выго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8"/>
          <p:cNvSpPr/>
          <p:nvPr/>
        </p:nvSpPr>
        <p:spPr>
          <a:xfrm flipV="1" rot="10800000">
            <a:off x="249120" y="1563480"/>
            <a:ext cx="857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0880" y="1437840"/>
            <a:ext cx="67057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актуальные технологии, применяемые  мною на уроках музы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63320" y="1961640"/>
            <a:ext cx="668484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личностно-ориентированного 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ноуровнего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коммуникационные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нравственного воспи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ерспективно – опережающего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4880" y="1790640"/>
            <a:ext cx="63147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«Если ученик в школе не научился сам ничего творить, то в жизни он будет только подражать, копировать»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                                                                                               Л.Н.Толсто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2440" y="2465280"/>
            <a:ext cx="839160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х государственных образовательных стандартов общего образования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х деятельностный характер, который ставит главной задачей развитие личности учен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адач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личностно-ориентированного обучения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, чтобы помогать каждому ученику с учётом имеющегося у него опыта развивать свои индивидуальные 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внимания педагога — уникальная целостная личность ребенка, открытая для восприятия нового опыта, способная на осознанный и ответственный выбор в разнообразных жизненных ситуациях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93680" y="1714320"/>
            <a:ext cx="6521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значимые принципы личностно- ориентированного обучени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2066400"/>
            <a:ext cx="788688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убъектного опыта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я свободы выбора при выполнении заданий, решений задач, стимулирование к самостоятельному выбор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детского творч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педагога заключается в создании условий, чтобы дать каждому ребенку проявить себ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учитель выступает не столько как транслятор знаний, сколько как организатор, координатор учебной деятельности, учитель- собеседник, исследователь, учитель - эксперт, консульт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2720" y="1825560"/>
            <a:ext cx="610236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разноуровнего обуч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3360" y="1733400"/>
            <a:ext cx="86104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данной технологии состоит в том, чтобы все школьники овладели базовым уровнем знаний и умений, имели возможности для своего дальнейшего развит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этой технологии дает возможность развивать индивидуальные способ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сообразно применять уровневую дифференциацию при изучении сложных тем или разде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также применять и при изучении новой темы. Объяснение материала от сложного к простому, в конце можно определить уровень усвоения материала на уро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6320" y="1552320"/>
            <a:ext cx="69087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о-развивающие технолог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840" y="2066760"/>
            <a:ext cx="8658000" cy="31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вершенствование движений и сенсомоторного разви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ррекция отдельных сторон псих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тие основных мыслительных опер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витие различных видов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оррекция нарушений в развитии эмоционально-личностной сфе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азвитие речи, овладение техникой ре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асширение представлений об окружающем мире и обогащения слова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Коррекция индивидуальных пробелов в зна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92320" y="1866600"/>
            <a:ext cx="58053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овые технологии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2390760"/>
            <a:ext cx="86389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с использованием игровых ситуаций способствуют появлению активного  познавательного интереса у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на закрепление, повторение и обобщение матер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, ребусы, игровое лото, музыкальное домино и т. 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укол перчаточного театра, игрушек, элементов  костю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ую технологию можно использовать в качестве проведения целого урока, например игра – путеше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0720" y="1486080"/>
            <a:ext cx="78868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6520" y="2000160"/>
            <a:ext cx="86266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создания мотивации требует от педагога особенного творческого подхода, нужно всё предвидеть и просчитать, ведь от правильно поставленной мотивации зависит результативность всего уро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ыдвинуть перед детьми такую проблему, которая интересна и значима для кажд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блемной ситуации обучающиеся вынуждены самостоятельно искать решение, а учитель лишь помога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такого обучения дети учатся мыслить логично, творчески, испытывают чувство уверенности в своих силах, т.к. самостоятельно добытые знания  более проч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85480" y="1571760"/>
            <a:ext cx="65120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создания проблемных ситуац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3000" y="2162160"/>
            <a:ext cx="86202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дание должно соответствовать интеллектуальным возможностям обучающего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блемное задание дается до объяснения нового матер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акими заданиями могут быть: усвоение, формулировка вопроса, практические дейст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дна и та же проблемная ситуация может быть вызвана различными    типами зад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1T15:04:42Z</dcterms:created>
  <dc:creator>Артём Кулаков</dc:creator>
  <dc:description/>
  <dc:language>en-US</dc:language>
  <cp:lastModifiedBy>Пользователь Windows</cp:lastModifiedBy>
  <dcterms:modified xsi:type="dcterms:W3CDTF">2022-01-22T06:34:59Z</dcterms:modified>
  <cp:revision>72</cp:revision>
  <dc:subject/>
  <dc:title>Презентация PowerPoint</dc:title>
</cp:coreProperties>
</file>